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8EDE-BA95-4F13-AE21-71675E6D4D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AD02-3879-4A36-8B9B-1C7A1D8A6C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CD5-4831-4A22-B7E1-66789EB6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4F0-564E-4CEF-BA8D-214E6859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E2E-6568-4E67-9F7C-6DE9DA72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7D4-337D-4D7E-B4E8-B1BDC7CF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512-58AB-42EC-8932-939C8DB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31C-C5D7-487E-8A62-736F9971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F8A-1F08-4DD3-9B85-BDE058C3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91C-C255-4D3D-926E-45C40279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444-512A-4463-A547-67BF9969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C53-CE22-4078-8D05-F8B6629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735-D78D-467A-86BF-0EE82F1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1FC-4F19-40FE-908B-8A41962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2FE9-45EE-4E55-B6E6-93341EE2F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8965440"/>
            <a:ext cx="6858000" cy="215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AMDEC ET FIABILITE DESCOMPOSANTS/EQUIPEMENTS ELECTRONIQUES                                                               Harry RANAIVOARISON</a:t>
            </a:r>
            <a:endParaRPr b="0" lang="en-US" sz="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585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35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1303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107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31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56808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xemple 1 : la pile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'usure normale correspond à la durée de vie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is, de temps en temps, certaines se mettent en cours circuit, surchauffe,... 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'est du lambda aléatoire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49600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xemple 3 : une lampe à incandescence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 on change toutes les 350 ampoules en même temps..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ur une période de 2 ans on va en voir une dizaine claquer de manière aléatoires c'est le lambda et puis d'un coup (en l'espace de 2 mois), les 340 autres vont mourir de leur belle mort c'est la DDV.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260280" y="6903000"/>
            <a:ext cx="6524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xemple 4 : l’homme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'homme vieilli et a une durée de vie d'environ 77 ans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e qui ne lui empêche pas d'avoir quelques pannes accidentelles durant sa durée de vie (maladie, accidents). 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 MTTF d'un homme est de l'ordre de 14000 ans ! Dommage qu'on vieillit..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4280" y="2598840"/>
            <a:ext cx="685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xemple 2 : une pile ou une bougie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'usure normale correspond à la durée de vie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e bougie a une durée de vie de 1 h et si on met 1.000.000 de bougies allumées pendant 1 heure on pourra trouver 5 qui ne vont pas jusqu’au bout.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 lambda est alors 5/1000000 h = 5*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imes New Roman"/>
              </a:rPr>
              <a:t>-6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/h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’où un MTTF de 200 000 heures soit 22 ans</a:t>
            </a: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0:18:32Z</dcterms:created>
  <dc:creator>THOMSON</dc:creator>
  <dc:description/>
  <dc:language>en-US</dc:language>
  <cp:lastModifiedBy>Harry Ranaivoarison</cp:lastModifiedBy>
  <dcterms:modified xsi:type="dcterms:W3CDTF">2016-10-10T06:24:01Z</dcterms:modified>
  <cp:revision>128</cp:revision>
  <dc:subject/>
  <dc:title>Aucun titre de diapositive</dc:title>
</cp:coreProperties>
</file>